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gif" ContentType="image/gif"/>
  <Override PartName="/ppt/media/image10.jpeg" ContentType="image/jpeg"/>
  <Override PartName="/ppt/media/image6.gif" ContentType="image/gif"/>
  <Override PartName="/ppt/media/image18.png" ContentType="image/png"/>
  <Override PartName="/ppt/media/image15.jpeg" ContentType="image/jpeg"/>
  <Override PartName="/ppt/media/image14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9.jpeg" ContentType="image/jpeg"/>
  <Override PartName="/ppt/media/image11.jpeg" ContentType="image/jpeg"/>
  <Override PartName="/ppt/media/image5.gif" ContentType="image/gi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EFC-D4D0-4A1D-8334-4ED0890F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4F7-63D6-4ADA-8F04-878BF121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EAB-BB88-4676-8CE2-9DF13A2E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128-E978-4CF3-B2FB-28ABC733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50EF-4687-4E2F-A28F-96053786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7E4-A011-44B4-BB35-951BCBE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E189-63BE-4249-B88A-8943F86F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E68-9CD7-44EA-A501-06F92F5A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9B0E-3CDA-43B2-99AF-F18E066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2B11-F0AA-41BE-A2D4-837A55C3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0F46-FB5B-4D01-A5CB-0CB62110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DB0-1DA4-4C13-813F-DFD0626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55EB-C58F-408E-9596-C482F74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CB2D-32F7-4EEF-90FB-4C219D1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F679-7C9B-415E-8529-7A6F755D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26F0-F32B-45D8-A009-79C427E6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314F-3F3D-4B75-A515-70C0F545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B16-3452-41B7-AB3F-1845032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E3B-9648-4C98-853F-CF70F811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362-1BD1-4A69-9AFC-4B47533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77F-F116-4F26-814D-E4AB13FD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F02-E8D6-46F7-9A3F-8DD8DAD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720-DAE7-4046-BF2E-73236E5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5DF-2C46-49C8-94F0-84DAD75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FEDB-ACC9-491A-949E-24A0ED9A1291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09C-4FEB-448A-B914-5A3563B13333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600200" y="4038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郑州旅游 职业学院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基础部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冯铁勇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__scale__1_480071539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54280" y="1715760"/>
            <a:ext cx="2466720" cy="1008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ahoma"/>
              </a:rPr>
              <a:t>好玩的数学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宋体"/>
              </a:rPr>
              <a:t>三 智巧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7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睡莲问题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有一种睡莲，每天长大一倍，第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28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天长满整个池塘，问要长满半个池塘需要多少天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72200" y="33508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27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80360" y="352764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8 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项链问题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7400" y="4876920"/>
            <a:ext cx="914400" cy="1523520"/>
            <a:chOff x="2057400" y="4876920"/>
            <a:chExt cx="914400" cy="1523520"/>
          </a:xfrm>
        </p:grpSpPr>
        <p:sp>
          <p:nvSpPr>
            <p:cNvPr id="278" name=""/>
            <p:cNvSpPr/>
            <p:nvPr/>
          </p:nvSpPr>
          <p:spPr>
            <a:xfrm>
              <a:off x="2057400" y="487692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09680" y="510516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5410080"/>
              <a:ext cx="30456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4600" y="563868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6880" y="594360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10280" y="4800600"/>
            <a:ext cx="914400" cy="1523520"/>
            <a:chOff x="7010280" y="4800600"/>
            <a:chExt cx="914400" cy="1523520"/>
          </a:xfrm>
        </p:grpSpPr>
        <p:sp>
          <p:nvSpPr>
            <p:cNvPr id="284" name=""/>
            <p:cNvSpPr/>
            <p:nvPr/>
          </p:nvSpPr>
          <p:spPr>
            <a:xfrm>
              <a:off x="7010280" y="480060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2560" y="502884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0" y="5333760"/>
              <a:ext cx="30456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67480" y="556236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19760" y="586728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715000" y="4800600"/>
            <a:ext cx="914400" cy="1523520"/>
            <a:chOff x="5715000" y="4800600"/>
            <a:chExt cx="914400" cy="1523520"/>
          </a:xfrm>
        </p:grpSpPr>
        <p:sp>
          <p:nvSpPr>
            <p:cNvPr id="290" name=""/>
            <p:cNvSpPr/>
            <p:nvPr/>
          </p:nvSpPr>
          <p:spPr>
            <a:xfrm>
              <a:off x="5715000" y="480060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7280" y="502884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9920" y="5333760"/>
              <a:ext cx="30456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72200" y="556236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24480" y="586728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419720" y="4800600"/>
            <a:ext cx="914400" cy="1523520"/>
            <a:chOff x="4419720" y="4800600"/>
            <a:chExt cx="914400" cy="1523520"/>
          </a:xfrm>
        </p:grpSpPr>
        <p:sp>
          <p:nvSpPr>
            <p:cNvPr id="296" name=""/>
            <p:cNvSpPr/>
            <p:nvPr/>
          </p:nvSpPr>
          <p:spPr>
            <a:xfrm>
              <a:off x="4419720" y="480060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2000" y="502884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24640" y="5333760"/>
              <a:ext cx="30456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6920" y="556236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9200" y="586728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276720" y="4876920"/>
            <a:ext cx="914400" cy="1523520"/>
            <a:chOff x="3276720" y="4876920"/>
            <a:chExt cx="914400" cy="1523520"/>
          </a:xfrm>
        </p:grpSpPr>
        <p:sp>
          <p:nvSpPr>
            <p:cNvPr id="302" name=""/>
            <p:cNvSpPr/>
            <p:nvPr/>
          </p:nvSpPr>
          <p:spPr>
            <a:xfrm>
              <a:off x="3276720" y="487692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29000" y="510516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410080"/>
              <a:ext cx="30456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33920" y="563868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86200" y="594360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914400" y="4876920"/>
            <a:ext cx="914400" cy="1523520"/>
            <a:chOff x="914400" y="4876920"/>
            <a:chExt cx="914400" cy="1523520"/>
          </a:xfrm>
        </p:grpSpPr>
        <p:sp>
          <p:nvSpPr>
            <p:cNvPr id="308" name=""/>
            <p:cNvSpPr/>
            <p:nvPr/>
          </p:nvSpPr>
          <p:spPr>
            <a:xfrm>
              <a:off x="914400" y="487692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66680" y="510516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19320" y="5410080"/>
              <a:ext cx="30456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71600" y="563868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3880" y="5943600"/>
              <a:ext cx="304920" cy="45684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1523880"/>
            <a:ext cx="662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9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细菌繁殖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有一种细菌，每分钟分裂为两个，第二分钟分裂为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个，第三分钟分裂为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个…，将这样的一个细菌放在瓶子里，一个小时便充满整个瓶子。那么如果最初放两个这样的细菌，要多长时间充满整个瓶子呢？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71080" y="4971960"/>
            <a:ext cx="14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59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分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68580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宋体"/>
              </a:rPr>
              <a:t>智巧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四 汉诺塔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中世纪的时候，在世界的中心梵蒂冈，当时的教皇汉诺的大教堂里，有一个木桌，木桌上放置一块铜板，铜板上插三根银针，在左边的银针上套着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64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枚金片，它们由小到大自上而下呈塔型放置。教皇汉诺让值日僧轮流不断地将这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64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枚金片移来移去，条件是每次移动时小片必在大片的上方，目的是把左边的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64</a:t>
            </a:r>
            <a:r>
              <a:rPr b="0" lang="zh-CN" sz="2400" spc="-1" strike="noStrike">
                <a:solidFill>
                  <a:srgbClr val="40458c"/>
                </a:solidFill>
                <a:latin typeface="宋体"/>
              </a:rPr>
              <a:t>枚金片全部移到右边的银针上，中间针作为过渡针。当这一任务完成时，地球在轰隆一声中爆炸了，人类也就灭亡了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460160" y="1727640"/>
            <a:ext cx="19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世界末日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2d323a1ff1f3a1dd17548d2f3b70b219-o" descr=""/>
          <p:cNvPicPr/>
          <p:nvPr/>
        </p:nvPicPr>
        <p:blipFill>
          <a:blip r:embed="rId1"/>
          <a:stretch/>
        </p:blipFill>
        <p:spPr>
          <a:xfrm>
            <a:off x="685800" y="5144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38080" y="914400"/>
            <a:ext cx="7315200" cy="43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设把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片移到右针上有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0" lang="zh-CN" sz="2400" spc="-1" strike="noStrike" baseline="-30000">
                <a:solidFill>
                  <a:srgbClr val="0000ff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种方法，我们将左针上的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片分成两部分：上边的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n-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片和最下边的大片。接下来，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第一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先把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n-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片从左针移到右针上有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宋体"/>
              </a:rPr>
              <a:t>n-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次，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第二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把大片移到右针上有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次，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第三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把中针上的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n-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片移到右针上有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宋体"/>
              </a:rPr>
              <a:t>n-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次。即有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0" lang="zh-CN" sz="2400" spc="-1" strike="noStrike" baseline="-30000">
                <a:solidFill>
                  <a:srgbClr val="0000ff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=2a</a:t>
            </a:r>
            <a:r>
              <a:rPr b="0" lang="zh-CN" sz="2400" spc="-1" strike="noStrike" baseline="-30000">
                <a:solidFill>
                  <a:srgbClr val="0000ff"/>
                </a:solidFill>
                <a:latin typeface="宋体"/>
              </a:rPr>
              <a:t>n-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+ 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易推出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0" lang="zh-CN" sz="2400" spc="-1" strike="noStrike" baseline="-30000">
                <a:solidFill>
                  <a:srgbClr val="0000ff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=2</a:t>
            </a:r>
            <a:r>
              <a:rPr b="0" lang="zh-CN" sz="2400" spc="-1" strike="noStrike" baseline="30000">
                <a:solidFill>
                  <a:srgbClr val="0000ff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所以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宋体"/>
              </a:rPr>
              <a:t>n-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00ff"/>
                </a:solidFill>
                <a:latin typeface="宋体"/>
              </a:rPr>
              <a:t>64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lg2</a:t>
            </a:r>
            <a:r>
              <a:rPr b="0" lang="zh-CN" sz="2400" spc="-1" strike="noStrike" baseline="30000">
                <a:solidFill>
                  <a:srgbClr val="ff3300"/>
                </a:solidFill>
                <a:latin typeface="宋体"/>
              </a:rPr>
              <a:t>64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=64lg2=64×0.3010=19.264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它是一个具有二十位的数字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00ff"/>
                </a:solidFill>
                <a:latin typeface="宋体"/>
              </a:rPr>
              <a:t>64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的精确值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446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744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73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709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55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615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假定值日僧每秒移动一次，那么相当于    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年，而地球的寿命只有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亿年，太阳系的寿命也只有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0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亿年。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752480" y="4572000"/>
                <a:ext cx="5791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44</m:t>
                        </m:r>
                        <m:r>
                          <m:rPr>
                            <m:lit/>
                            <m:nor/>
                          </m:rPr>
                          <m:t xml:space="preserve">6744</m:t>
                        </m:r>
                        <m:r>
                          <m:rPr>
                            <m:lit/>
                            <m:nor/>
                          </m:rPr>
                          <m:t xml:space="preserve">0737</m:t>
                        </m:r>
                        <m:r>
                          <m:rPr>
                            <m:lit/>
                            <m:nor/>
                          </m:rPr>
                          <m:t xml:space="preserve">0955</m:t>
                        </m:r>
                        <m:r>
                          <m:rPr>
                            <m:lit/>
                            <m:nor/>
                          </m:rPr>
                          <m:t xml:space="preserve">16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49</m:t>
                    </m:r>
                    <m:r>
                      <m:rPr>
                        <m:lit/>
                        <m:nor/>
                      </m:rPr>
                      <m:t xml:space="preserve">4241</m:t>
                    </m:r>
                    <m:r>
                      <m:rPr>
                        <m:lit/>
                        <m:nor/>
                      </m:rPr>
                      <m:t xml:space="preserve">73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737280" y="4546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世界末日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》解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世界末日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》另解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只有一片有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种方法；两片有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种方法；三片有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种方法；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片有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种方法…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不同片数需要的方法种数构成了一个数列：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，…，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660066"/>
                </a:solidFill>
                <a:latin typeface="宋体"/>
              </a:rPr>
              <a:t>n-1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a</a:t>
            </a:r>
            <a:r>
              <a:rPr b="0" lang="zh-CN" sz="2400" spc="-1" strike="noStrike" baseline="-25000">
                <a:solidFill>
                  <a:srgbClr val="660066"/>
                </a:solidFill>
                <a:latin typeface="宋体"/>
              </a:rPr>
              <a:t>64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=2</a:t>
            </a:r>
            <a:r>
              <a:rPr b="0" lang="zh-CN" sz="2400" spc="-1" strike="noStrike" baseline="30000">
                <a:solidFill>
                  <a:srgbClr val="660066"/>
                </a:solidFill>
                <a:latin typeface="宋体"/>
              </a:rPr>
              <a:t>64</a:t>
            </a: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-1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4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4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7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0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1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30988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五 拓扑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3815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宋体"/>
              </a:rPr>
              <a:t>11 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手转笔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2 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纸卷笔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3 </a:t>
            </a:r>
            <a:r>
              <a:rPr b="1" lang="zh-CN" sz="2800" spc="-1" strike="noStrike">
                <a:solidFill>
                  <a:srgbClr val="40458c"/>
                </a:solidFill>
                <a:latin typeface="宋体"/>
              </a:rPr>
              <a:t>莫比乌斯怪圈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4 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绳子魔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174840" cy="1968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3429000" cy="3406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5651640" y="3429000"/>
            <a:ext cx="1922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3657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六 幻方制作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15 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奇数级幻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性质：各行、各列的和与对角线上的数字和相等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2544840"/>
            <a:ext cx="81532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制作：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、在方格形的等距处的上方和右方各划一条线；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、在第一行的中间写上数字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、按对角线向上的方向依次写树，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若顶到上线，则数字落到最下方，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若顶到右线则数字落到最左边，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若顶到角处或数字则直接写在下方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2438280" y="1143000"/>
            <a:ext cx="4109760" cy="4219560"/>
            <a:chOff x="2438280" y="1143000"/>
            <a:chExt cx="4109760" cy="4219560"/>
          </a:xfrm>
        </p:grpSpPr>
        <p:grpSp>
          <p:nvGrpSpPr>
            <p:cNvPr id="335" name=""/>
            <p:cNvGrpSpPr/>
            <p:nvPr/>
          </p:nvGrpSpPr>
          <p:grpSpPr>
            <a:xfrm>
              <a:off x="2444040" y="1147680"/>
              <a:ext cx="4097160" cy="4210200"/>
              <a:chOff x="2444040" y="1147680"/>
              <a:chExt cx="4097160" cy="421020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2444040" y="1147680"/>
                <a:ext cx="4097160" cy="701640"/>
                <a:chOff x="2444040" y="1147680"/>
                <a:chExt cx="4097160" cy="701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31880" y="1147680"/>
                  <a:ext cx="39211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40458c"/>
                      </a:solidFill>
                      <a:latin typeface="宋体"/>
                      <a:ea typeface="Times New Roman"/>
                    </a:rPr>
                    <a:t>    </a:t>
                  </a:r>
                  <a:r>
                    <a:rPr b="0" lang="zh-CN" sz="2400" spc="-1" strike="noStrike">
                      <a:solidFill>
                        <a:srgbClr val="999999"/>
                      </a:solidFill>
                      <a:latin typeface="宋体"/>
                      <a:ea typeface="Times New Roman"/>
                    </a:rPr>
                    <a:t>18   25   2   9      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444040" y="1147680"/>
                  <a:ext cx="40971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444040" y="1849320"/>
                <a:ext cx="682560" cy="701640"/>
                <a:chOff x="2444040" y="1849320"/>
                <a:chExt cx="682560" cy="7016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531880" y="1849320"/>
                  <a:ext cx="506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7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444040" y="184932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126960" y="1849320"/>
                <a:ext cx="682560" cy="701640"/>
                <a:chOff x="3126960" y="1849320"/>
                <a:chExt cx="682560" cy="701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214440" y="184932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24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26960" y="184932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9880" y="1849320"/>
                <a:ext cx="682560" cy="701640"/>
                <a:chOff x="3809880" y="1849320"/>
                <a:chExt cx="682560" cy="7016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897360" y="184932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宋体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9880" y="184932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493160" y="1849320"/>
                <a:ext cx="682200" cy="701640"/>
                <a:chOff x="4493160" y="1849320"/>
                <a:chExt cx="682200" cy="701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580640" y="184932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493160" y="1849320"/>
                  <a:ext cx="6822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175720" y="1849320"/>
                <a:ext cx="682560" cy="701640"/>
                <a:chOff x="5175720" y="1849320"/>
                <a:chExt cx="682560" cy="7016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263560" y="184932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5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175720" y="184932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858640" y="1849320"/>
                <a:ext cx="682560" cy="3508560"/>
                <a:chOff x="5858640" y="1849320"/>
                <a:chExt cx="682560" cy="35085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946480" y="1849320"/>
                  <a:ext cx="506520" cy="35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999999"/>
                      </a:solidFill>
                      <a:latin typeface="宋体"/>
                      <a:ea typeface="Times New Roman"/>
                    </a:rPr>
                    <a:t>17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999999"/>
                      </a:solidFill>
                      <a:latin typeface="宋体"/>
                      <a:ea typeface="Times New Roman"/>
                    </a:rPr>
                    <a:t>23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999999"/>
                      </a:solidFill>
                      <a:latin typeface="宋体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999999"/>
                      </a:solidFill>
                      <a:latin typeface="宋体"/>
                      <a:ea typeface="Times New Roman"/>
                    </a:rPr>
                    <a:t>1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858640" y="1849320"/>
                  <a:ext cx="682560" cy="350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444040" y="2550960"/>
                <a:ext cx="682560" cy="701640"/>
                <a:chOff x="2444040" y="2550960"/>
                <a:chExt cx="682560" cy="7016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531880" y="2550960"/>
                  <a:ext cx="506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23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444040" y="255096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126960" y="2550960"/>
                <a:ext cx="682560" cy="701640"/>
                <a:chOff x="3126960" y="2550960"/>
                <a:chExt cx="682560" cy="7016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214440" y="255096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126960" y="255096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809880" y="2550960"/>
                <a:ext cx="682560" cy="701640"/>
                <a:chOff x="3809880" y="2550960"/>
                <a:chExt cx="682560" cy="7016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3897360" y="255096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09880" y="255096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493160" y="2550960"/>
                <a:ext cx="682200" cy="701640"/>
                <a:chOff x="4493160" y="2550960"/>
                <a:chExt cx="682200" cy="7016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580640" y="255096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4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493160" y="2550960"/>
                  <a:ext cx="6822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175720" y="2550960"/>
                <a:ext cx="682560" cy="701640"/>
                <a:chOff x="5175720" y="2550960"/>
                <a:chExt cx="682560" cy="7016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263560" y="255096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175720" y="255096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444040" y="3252600"/>
                <a:ext cx="682560" cy="701640"/>
                <a:chOff x="2444040" y="3252600"/>
                <a:chExt cx="682560" cy="7016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531880" y="3252600"/>
                  <a:ext cx="506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44040" y="325260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126960" y="3252600"/>
                <a:ext cx="682560" cy="701640"/>
                <a:chOff x="3126960" y="3252600"/>
                <a:chExt cx="682560" cy="7016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214440" y="325260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126960" y="325260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809880" y="3252600"/>
                <a:ext cx="682560" cy="701640"/>
                <a:chOff x="3809880" y="3252600"/>
                <a:chExt cx="682560" cy="7016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897360" y="325260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3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809880" y="325260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493160" y="3252600"/>
                <a:ext cx="682200" cy="701640"/>
                <a:chOff x="4493160" y="3252600"/>
                <a:chExt cx="682200" cy="7016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80640" y="325260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2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93160" y="3252600"/>
                  <a:ext cx="6822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175720" y="3252600"/>
                <a:ext cx="682560" cy="701640"/>
                <a:chOff x="5175720" y="3252600"/>
                <a:chExt cx="682560" cy="7016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263560" y="325260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22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175720" y="325260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444040" y="3954240"/>
                <a:ext cx="682560" cy="701640"/>
                <a:chOff x="2444040" y="3954240"/>
                <a:chExt cx="682560" cy="7016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531880" y="3954240"/>
                  <a:ext cx="506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44040" y="395424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126960" y="3954240"/>
                <a:ext cx="682560" cy="701640"/>
                <a:chOff x="3126960" y="3954240"/>
                <a:chExt cx="682560" cy="7016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214440" y="395424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126960" y="395424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809880" y="3954240"/>
                <a:ext cx="682560" cy="701640"/>
                <a:chOff x="3809880" y="3954240"/>
                <a:chExt cx="682560" cy="7016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897360" y="395424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809880" y="395424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493160" y="3954240"/>
                <a:ext cx="682200" cy="701640"/>
                <a:chOff x="4493160" y="3954240"/>
                <a:chExt cx="682200" cy="7016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580640" y="395424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21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93160" y="3954240"/>
                  <a:ext cx="68220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175720" y="3954240"/>
                <a:ext cx="682560" cy="701640"/>
                <a:chOff x="5175720" y="3954240"/>
                <a:chExt cx="682560" cy="7016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263560" y="3954240"/>
                  <a:ext cx="506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175720" y="3954240"/>
                  <a:ext cx="6825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444040" y="4655880"/>
                <a:ext cx="682560" cy="702000"/>
                <a:chOff x="2444040" y="4655880"/>
                <a:chExt cx="682560" cy="7020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531880" y="4655880"/>
                  <a:ext cx="506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1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444040" y="4655880"/>
                  <a:ext cx="6825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3126960" y="4655880"/>
                <a:ext cx="682560" cy="702000"/>
                <a:chOff x="3126960" y="4655880"/>
                <a:chExt cx="682560" cy="7020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214440" y="4655880"/>
                  <a:ext cx="5068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18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26960" y="4655880"/>
                  <a:ext cx="6825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809880" y="4655880"/>
                <a:ext cx="682560" cy="702000"/>
                <a:chOff x="3809880" y="4655880"/>
                <a:chExt cx="682560" cy="7020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897360" y="4655880"/>
                  <a:ext cx="5068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25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809880" y="4655880"/>
                  <a:ext cx="6825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493160" y="4655880"/>
                <a:ext cx="682200" cy="702000"/>
                <a:chOff x="4493160" y="4655880"/>
                <a:chExt cx="682200" cy="7020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580640" y="4655880"/>
                  <a:ext cx="5068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493160" y="4655880"/>
                  <a:ext cx="68220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175720" y="4655880"/>
                <a:ext cx="682560" cy="702000"/>
                <a:chOff x="5175720" y="4655880"/>
                <a:chExt cx="682560" cy="7020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5263560" y="4655880"/>
                  <a:ext cx="5068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0080"/>
                      </a:solidFill>
                      <a:latin typeface="宋体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175720" y="4655880"/>
                  <a:ext cx="6825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2438280" y="1143000"/>
              <a:ext cx="4109760" cy="421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3780000" y="1341000"/>
            <a:ext cx="1152360" cy="115092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932360" y="3715920"/>
            <a:ext cx="1152360" cy="115092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556000" y="2565000"/>
            <a:ext cx="1152360" cy="115092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059280" y="1412640"/>
            <a:ext cx="2520720" cy="25174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4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引子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1123920" cy="1336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958120" y="13694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聪明来自勤奋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68080" y="531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勤能补拙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15080" y="2283840"/>
            <a:ext cx="499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成功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=99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分汗水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+1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分幸运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198240"/>
            <a:ext cx="856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宝剑锋从磨砺出，梅花香自苦寒来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4453560"/>
            <a:ext cx="4667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只学习不玩耍，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聪明孩子也变傻！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幻方制作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16 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偶数级幻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、各行、各列、对角线上的数字和相等；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、每个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阶子幻方具有性质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3321720"/>
            <a:ext cx="8534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制作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宋体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、画米字格，（正好覆盖了一半格子）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宋体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、在被斜线覆盖的格子里顺次填上数字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、倒过来填上余下的数字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2286000" y="774720"/>
            <a:ext cx="5486040" cy="5310000"/>
            <a:chOff x="2286000" y="774720"/>
            <a:chExt cx="5486040" cy="5310000"/>
          </a:xfrm>
        </p:grpSpPr>
        <p:grpSp>
          <p:nvGrpSpPr>
            <p:cNvPr id="426" name=""/>
            <p:cNvGrpSpPr/>
            <p:nvPr/>
          </p:nvGrpSpPr>
          <p:grpSpPr>
            <a:xfrm>
              <a:off x="2292120" y="779400"/>
              <a:ext cx="5472000" cy="5300640"/>
              <a:chOff x="2292120" y="779400"/>
              <a:chExt cx="5472000" cy="53006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2292120" y="779400"/>
                <a:ext cx="678960" cy="639720"/>
                <a:chOff x="2292120" y="779400"/>
                <a:chExt cx="67896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384280" y="77940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2120" y="7794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971440" y="779400"/>
                <a:ext cx="678960" cy="639720"/>
                <a:chOff x="2971440" y="779400"/>
                <a:chExt cx="67896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063600" y="77940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6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971440" y="7794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650760" y="779400"/>
                <a:ext cx="717120" cy="639720"/>
                <a:chOff x="3650760" y="779400"/>
                <a:chExt cx="71712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742200" y="779400"/>
                  <a:ext cx="533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6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650760" y="779400"/>
                  <a:ext cx="71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368600" y="779400"/>
                <a:ext cx="678960" cy="639720"/>
                <a:chOff x="4368600" y="779400"/>
                <a:chExt cx="67896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460760" y="77940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68600" y="7794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5047920" y="779400"/>
                <a:ext cx="678960" cy="639720"/>
                <a:chOff x="5047920" y="779400"/>
                <a:chExt cx="67896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140080" y="77940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047920" y="7794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5727240" y="779400"/>
                <a:ext cx="678960" cy="639720"/>
                <a:chOff x="5727240" y="779400"/>
                <a:chExt cx="67896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819040" y="77940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59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727240" y="7794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406560" y="779400"/>
                <a:ext cx="678960" cy="639720"/>
                <a:chOff x="6406560" y="779400"/>
                <a:chExt cx="678960" cy="6397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498360" y="77940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58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406560" y="7794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7085880" y="779400"/>
                <a:ext cx="678240" cy="639720"/>
                <a:chOff x="7085880" y="779400"/>
                <a:chExt cx="678240" cy="6397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177320" y="779400"/>
                  <a:ext cx="49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 </a:t>
                  </a: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085880" y="779400"/>
                  <a:ext cx="678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292120" y="1419120"/>
                <a:ext cx="678960" cy="822240"/>
                <a:chOff x="2292120" y="1419120"/>
                <a:chExt cx="678960" cy="8222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384280" y="1419120"/>
                  <a:ext cx="494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5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292120" y="1419120"/>
                  <a:ext cx="678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2971440" y="1419120"/>
                <a:ext cx="678960" cy="822240"/>
                <a:chOff x="2971440" y="1419120"/>
                <a:chExt cx="678960" cy="8222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063600" y="1419120"/>
                  <a:ext cx="494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71440" y="1419120"/>
                  <a:ext cx="678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650760" y="1419120"/>
                <a:ext cx="717120" cy="822240"/>
                <a:chOff x="3650760" y="1419120"/>
                <a:chExt cx="717120" cy="8222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742200" y="1419120"/>
                  <a:ext cx="5331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1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650760" y="1419120"/>
                  <a:ext cx="7171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368600" y="1419120"/>
                <a:ext cx="678960" cy="822240"/>
                <a:chOff x="4368600" y="1419120"/>
                <a:chExt cx="678960" cy="8222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460760" y="1419120"/>
                  <a:ext cx="494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5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68600" y="1419120"/>
                  <a:ext cx="678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047920" y="1419120"/>
                <a:ext cx="678960" cy="822240"/>
                <a:chOff x="5047920" y="1419120"/>
                <a:chExt cx="678960" cy="8222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140080" y="1419120"/>
                  <a:ext cx="494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047920" y="1419120"/>
                  <a:ext cx="678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727240" y="1419120"/>
                <a:ext cx="678960" cy="822240"/>
                <a:chOff x="5727240" y="1419120"/>
                <a:chExt cx="678960" cy="822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819040" y="1419120"/>
                  <a:ext cx="495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1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727240" y="1419120"/>
                  <a:ext cx="678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406560" y="1419120"/>
                <a:ext cx="678960" cy="822240"/>
                <a:chOff x="6406560" y="1419120"/>
                <a:chExt cx="678960" cy="822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498360" y="1419120"/>
                  <a:ext cx="495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1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406560" y="1419120"/>
                  <a:ext cx="678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085880" y="1419120"/>
                <a:ext cx="678240" cy="822240"/>
                <a:chOff x="7085880" y="1419120"/>
                <a:chExt cx="678240" cy="8222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7177320" y="1419120"/>
                  <a:ext cx="494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49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085880" y="1419120"/>
                  <a:ext cx="6782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292120" y="2241360"/>
                <a:ext cx="678960" cy="639720"/>
                <a:chOff x="2292120" y="2241360"/>
                <a:chExt cx="678960" cy="6397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384280" y="224136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48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292120" y="22413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71440" y="2241360"/>
                <a:ext cx="678960" cy="639720"/>
                <a:chOff x="2971440" y="2241360"/>
                <a:chExt cx="678960" cy="6397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63600" y="224136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71440" y="22413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650760" y="2241360"/>
                <a:ext cx="717120" cy="639720"/>
                <a:chOff x="3650760" y="2241360"/>
                <a:chExt cx="717120" cy="6397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742200" y="2241360"/>
                  <a:ext cx="533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19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50760" y="2241360"/>
                  <a:ext cx="71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4368600" y="2241360"/>
                <a:ext cx="678960" cy="639720"/>
                <a:chOff x="4368600" y="2241360"/>
                <a:chExt cx="678960" cy="6397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60760" y="224136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4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368600" y="22413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047920" y="2241360"/>
                <a:ext cx="678960" cy="639720"/>
                <a:chOff x="5047920" y="2241360"/>
                <a:chExt cx="678960" cy="6397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5140080" y="224136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047920" y="22413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5727240" y="2241360"/>
                <a:ext cx="678960" cy="639720"/>
                <a:chOff x="5727240" y="2241360"/>
                <a:chExt cx="678960" cy="639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819040" y="224136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2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27240" y="22413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406560" y="2241360"/>
                <a:ext cx="678960" cy="639720"/>
                <a:chOff x="6406560" y="2241360"/>
                <a:chExt cx="678960" cy="6397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498360" y="224136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2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406560" y="22413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7085880" y="2241360"/>
                <a:ext cx="678240" cy="639720"/>
                <a:chOff x="7085880" y="2241360"/>
                <a:chExt cx="678240" cy="639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177320" y="2241360"/>
                  <a:ext cx="49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4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085880" y="2241360"/>
                  <a:ext cx="678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2292120" y="2881080"/>
                <a:ext cx="678960" cy="640080"/>
                <a:chOff x="2292120" y="2881080"/>
                <a:chExt cx="678960" cy="6400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384280" y="2881080"/>
                  <a:ext cx="4942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2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292120" y="2881080"/>
                  <a:ext cx="678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2971440" y="2881080"/>
                <a:ext cx="678960" cy="640080"/>
                <a:chOff x="2971440" y="2881080"/>
                <a:chExt cx="678960" cy="6400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3063600" y="2881080"/>
                  <a:ext cx="4942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38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971440" y="2881080"/>
                  <a:ext cx="678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650760" y="2881080"/>
                <a:ext cx="717120" cy="640080"/>
                <a:chOff x="3650760" y="2881080"/>
                <a:chExt cx="717120" cy="6400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742200" y="2881080"/>
                  <a:ext cx="5331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37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50760" y="2881080"/>
                  <a:ext cx="7171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368600" y="2881080"/>
                <a:ext cx="678960" cy="640080"/>
                <a:chOff x="4368600" y="2881080"/>
                <a:chExt cx="678960" cy="6400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460760" y="2881080"/>
                  <a:ext cx="4942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28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368600" y="2881080"/>
                  <a:ext cx="678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5047920" y="2881080"/>
                <a:ext cx="678960" cy="640080"/>
                <a:chOff x="5047920" y="2881080"/>
                <a:chExt cx="678960" cy="6400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5140080" y="2881080"/>
                  <a:ext cx="4942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29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047920" y="2881080"/>
                  <a:ext cx="678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5727240" y="2881080"/>
                <a:ext cx="678960" cy="640080"/>
                <a:chOff x="5727240" y="2881080"/>
                <a:chExt cx="678960" cy="6400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5819040" y="2881080"/>
                  <a:ext cx="495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3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727240" y="2881080"/>
                  <a:ext cx="678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6406560" y="2881080"/>
                <a:ext cx="678960" cy="640080"/>
                <a:chOff x="6406560" y="2881080"/>
                <a:chExt cx="678960" cy="6400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498360" y="2881080"/>
                  <a:ext cx="495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06560" y="2881080"/>
                  <a:ext cx="678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7085880" y="2881080"/>
                <a:ext cx="678240" cy="640080"/>
                <a:chOff x="7085880" y="2881080"/>
                <a:chExt cx="678240" cy="6400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177320" y="2881080"/>
                  <a:ext cx="494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3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085880" y="2881080"/>
                  <a:ext cx="678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292120" y="3521160"/>
                <a:ext cx="678960" cy="639720"/>
                <a:chOff x="2292120" y="3521160"/>
                <a:chExt cx="678960" cy="639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384280" y="352116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292120" y="35211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2971440" y="3521160"/>
                <a:ext cx="678960" cy="639720"/>
                <a:chOff x="2971440" y="3521160"/>
                <a:chExt cx="678960" cy="6397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063600" y="352116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3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971440" y="35211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3650760" y="3521160"/>
                <a:ext cx="717120" cy="639720"/>
                <a:chOff x="3650760" y="3521160"/>
                <a:chExt cx="717120" cy="6397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742200" y="3521160"/>
                  <a:ext cx="533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3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50760" y="3521160"/>
                  <a:ext cx="71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368600" y="3521160"/>
                <a:ext cx="678960" cy="639720"/>
                <a:chOff x="4368600" y="3521160"/>
                <a:chExt cx="678960" cy="639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460760" y="352116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3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368600" y="35211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5047920" y="3521160"/>
                <a:ext cx="678960" cy="639720"/>
                <a:chOff x="5047920" y="3521160"/>
                <a:chExt cx="678960" cy="6397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140080" y="352116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37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047920" y="35211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727240" y="3521160"/>
                <a:ext cx="678960" cy="639720"/>
                <a:chOff x="5727240" y="3521160"/>
                <a:chExt cx="678960" cy="6397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819040" y="352116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27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727240" y="35211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6406560" y="3521160"/>
                <a:ext cx="678960" cy="639720"/>
                <a:chOff x="6406560" y="3521160"/>
                <a:chExt cx="678960" cy="639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6498360" y="352116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06560" y="352116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7085880" y="3521160"/>
                <a:ext cx="678240" cy="639720"/>
                <a:chOff x="7085880" y="3521160"/>
                <a:chExt cx="678240" cy="6397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7177320" y="3521160"/>
                  <a:ext cx="49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085880" y="3521160"/>
                  <a:ext cx="678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2292120" y="4160880"/>
                <a:ext cx="678960" cy="639720"/>
                <a:chOff x="2292120" y="4160880"/>
                <a:chExt cx="678960" cy="6397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2384280" y="416088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2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292120" y="416088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2971440" y="4160880"/>
                <a:ext cx="678960" cy="639720"/>
                <a:chOff x="2971440" y="4160880"/>
                <a:chExt cx="678960" cy="6397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3063600" y="416088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4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971440" y="416088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3650760" y="4160880"/>
                <a:ext cx="717120" cy="639720"/>
                <a:chOff x="3650760" y="4160880"/>
                <a:chExt cx="717120" cy="639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742200" y="4160880"/>
                  <a:ext cx="533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4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650760" y="4160880"/>
                  <a:ext cx="71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4368600" y="4160880"/>
                <a:ext cx="678960" cy="639720"/>
                <a:chOff x="4368600" y="4160880"/>
                <a:chExt cx="678960" cy="6397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4460760" y="416088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2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368600" y="416088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5047920" y="4160880"/>
                <a:ext cx="678960" cy="639720"/>
                <a:chOff x="5047920" y="4160880"/>
                <a:chExt cx="678960" cy="639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5140080" y="416088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047920" y="416088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5727240" y="4160880"/>
                <a:ext cx="678960" cy="639720"/>
                <a:chOff x="5727240" y="4160880"/>
                <a:chExt cx="678960" cy="6397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5819040" y="416088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4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727240" y="416088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6406560" y="4160880"/>
                <a:ext cx="678960" cy="639720"/>
                <a:chOff x="6406560" y="4160880"/>
                <a:chExt cx="678960" cy="6397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6498360" y="416088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406560" y="416088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7085880" y="4160880"/>
                <a:ext cx="678240" cy="639720"/>
                <a:chOff x="7085880" y="4160880"/>
                <a:chExt cx="678240" cy="6397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7177320" y="4160880"/>
                  <a:ext cx="49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085880" y="4160880"/>
                  <a:ext cx="678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2292120" y="4800600"/>
                <a:ext cx="678960" cy="639720"/>
                <a:chOff x="2292120" y="4800600"/>
                <a:chExt cx="678960" cy="6397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2384280" y="480060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1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92120" y="48006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2971440" y="4800600"/>
                <a:ext cx="678960" cy="639720"/>
                <a:chOff x="2971440" y="4800600"/>
                <a:chExt cx="678960" cy="6397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3063600" y="480060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71440" y="48006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3650760" y="4800600"/>
                <a:ext cx="717120" cy="639720"/>
                <a:chOff x="3650760" y="4800600"/>
                <a:chExt cx="717120" cy="6397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3742200" y="4800600"/>
                  <a:ext cx="533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5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650760" y="4800600"/>
                  <a:ext cx="71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368600" y="4800600"/>
                <a:ext cx="678960" cy="639720"/>
                <a:chOff x="4368600" y="4800600"/>
                <a:chExt cx="678960" cy="639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4460760" y="480060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1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368600" y="48006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047920" y="4800600"/>
                <a:ext cx="678960" cy="639720"/>
                <a:chOff x="5047920" y="4800600"/>
                <a:chExt cx="678960" cy="6397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140080" y="480060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1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047920" y="48006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727240" y="4800600"/>
                <a:ext cx="678960" cy="639720"/>
                <a:chOff x="5727240" y="4800600"/>
                <a:chExt cx="678960" cy="6397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5819040" y="480060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727240" y="48006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6406560" y="4800600"/>
                <a:ext cx="678960" cy="639720"/>
                <a:chOff x="6406560" y="4800600"/>
                <a:chExt cx="678960" cy="6397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498360" y="480060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5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406560" y="480060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085880" y="4800600"/>
                <a:ext cx="678240" cy="639720"/>
                <a:chOff x="7085880" y="4800600"/>
                <a:chExt cx="678240" cy="639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177320" y="4800600"/>
                  <a:ext cx="49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085880" y="4800600"/>
                  <a:ext cx="678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292120" y="5440320"/>
                <a:ext cx="678960" cy="639720"/>
                <a:chOff x="2292120" y="5440320"/>
                <a:chExt cx="678960" cy="6397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2384280" y="544032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57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92120" y="544032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2971440" y="5440320"/>
                <a:ext cx="678960" cy="639720"/>
                <a:chOff x="2971440" y="5440320"/>
                <a:chExt cx="678960" cy="6397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063600" y="544032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7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971440" y="544032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50760" y="5440320"/>
                <a:ext cx="717120" cy="639720"/>
                <a:chOff x="3650760" y="5440320"/>
                <a:chExt cx="717120" cy="6397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42200" y="5440320"/>
                  <a:ext cx="533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50760" y="5440320"/>
                  <a:ext cx="71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368600" y="5440320"/>
                <a:ext cx="678960" cy="639720"/>
                <a:chOff x="4368600" y="5440320"/>
                <a:chExt cx="678960" cy="6397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460760" y="544032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6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368600" y="544032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5047920" y="5440320"/>
                <a:ext cx="678960" cy="639720"/>
                <a:chOff x="5047920" y="5440320"/>
                <a:chExt cx="678960" cy="6397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5140080" y="5440320"/>
                  <a:ext cx="494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6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47920" y="544032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5727240" y="5440320"/>
                <a:ext cx="678960" cy="639720"/>
                <a:chOff x="5727240" y="5440320"/>
                <a:chExt cx="678960" cy="6397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5819040" y="544032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727240" y="544032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6406560" y="5440320"/>
                <a:ext cx="678960" cy="639720"/>
                <a:chOff x="6406560" y="5440320"/>
                <a:chExt cx="678960" cy="6397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6498360" y="5440320"/>
                  <a:ext cx="495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宋体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406560" y="5440320"/>
                  <a:ext cx="678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7085880" y="5440320"/>
                <a:ext cx="678240" cy="639720"/>
                <a:chOff x="7085880" y="5440320"/>
                <a:chExt cx="678240" cy="6397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177320" y="5440320"/>
                  <a:ext cx="494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宋体"/>
                      <a:ea typeface="Times New Roman"/>
                    </a:rPr>
                    <a:t>6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085880" y="5440320"/>
                  <a:ext cx="678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b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9" name=""/>
            <p:cNvSpPr/>
            <p:nvPr/>
          </p:nvSpPr>
          <p:spPr>
            <a:xfrm>
              <a:off x="2286000" y="774720"/>
              <a:ext cx="5486040" cy="5310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b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5029200" y="380880"/>
            <a:ext cx="0" cy="5943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3505320"/>
            <a:ext cx="723924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自相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00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雪花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自相似美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Dsier" descr=""/>
          <p:cNvPicPr/>
          <p:nvPr/>
        </p:nvPicPr>
        <p:blipFill>
          <a:blip r:embed="rId1"/>
          <a:stretch/>
        </p:blipFill>
        <p:spPr>
          <a:xfrm>
            <a:off x="1714680" y="709560"/>
            <a:ext cx="57150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92vhs43sj6r0" descr=""/>
          <p:cNvPicPr/>
          <p:nvPr/>
        </p:nvPicPr>
        <p:blipFill>
          <a:blip r:embed="rId1"/>
          <a:stretch/>
        </p:blipFill>
        <p:spPr>
          <a:xfrm>
            <a:off x="914400" y="960480"/>
            <a:ext cx="64771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fractree1" descr=""/>
          <p:cNvPicPr/>
          <p:nvPr/>
        </p:nvPicPr>
        <p:blipFill>
          <a:blip r:embed="rId1"/>
          <a:stretch/>
        </p:blipFill>
        <p:spPr>
          <a:xfrm>
            <a:off x="243828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七  红帽子蓝帽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53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17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游船上的男孩女孩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18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贴错了标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19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红帽子蓝帽子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贴错了标签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2204640"/>
            <a:ext cx="553428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设想你有三只箱子，第一只装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条红帽子，第二只装有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条蓝帽子，第三只装有一条红帽子和一条蓝帽子，箱子上挂有说明其内容的标签红红、蓝蓝、红蓝。但有人换了一下标签，所以现在每只箱子上的标签都是错误的，现在允许你从任意一只箱子里一次拿一条帽子，但拿时不许看箱子里面，然后根据拿出来的领带判断三只箱子里的内容，你最少拿几次？从哪只箱子里拿？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­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020000" y="1413000"/>
            <a:ext cx="1655640" cy="1079280"/>
            <a:chOff x="7020000" y="1413000"/>
            <a:chExt cx="1655640" cy="1079280"/>
          </a:xfrm>
        </p:grpSpPr>
        <p:grpSp>
          <p:nvGrpSpPr>
            <p:cNvPr id="632" name=""/>
            <p:cNvGrpSpPr/>
            <p:nvPr/>
          </p:nvGrpSpPr>
          <p:grpSpPr>
            <a:xfrm>
              <a:off x="7020000" y="1413000"/>
              <a:ext cx="1655640" cy="1079280"/>
              <a:chOff x="7020000" y="1413000"/>
              <a:chExt cx="1655640" cy="1079280"/>
            </a:xfrm>
          </p:grpSpPr>
          <p:sp>
            <p:nvSpPr>
              <p:cNvPr id="633" name=""/>
              <p:cNvSpPr/>
              <p:nvPr/>
            </p:nvSpPr>
            <p:spPr>
              <a:xfrm>
                <a:off x="7020000" y="1413000"/>
                <a:ext cx="1655640" cy="1079280"/>
              </a:xfrm>
              <a:prstGeom prst="rect">
                <a:avLst/>
              </a:prstGeom>
              <a:noFill/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20000" y="1773360"/>
                <a:ext cx="165564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7451640" y="181692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ahoma"/>
                </a:rPr>
                <a:t>红红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948360" y="4292640"/>
            <a:ext cx="1655640" cy="1079280"/>
            <a:chOff x="6948360" y="4292640"/>
            <a:chExt cx="1655640" cy="1079280"/>
          </a:xfrm>
        </p:grpSpPr>
        <p:grpSp>
          <p:nvGrpSpPr>
            <p:cNvPr id="637" name=""/>
            <p:cNvGrpSpPr/>
            <p:nvPr/>
          </p:nvGrpSpPr>
          <p:grpSpPr>
            <a:xfrm>
              <a:off x="6948360" y="4292640"/>
              <a:ext cx="1655640" cy="1079280"/>
              <a:chOff x="6948360" y="4292640"/>
              <a:chExt cx="1655640" cy="1079280"/>
            </a:xfrm>
          </p:grpSpPr>
          <p:sp>
            <p:nvSpPr>
              <p:cNvPr id="638" name=""/>
              <p:cNvSpPr/>
              <p:nvPr/>
            </p:nvSpPr>
            <p:spPr>
              <a:xfrm>
                <a:off x="6948360" y="4292640"/>
                <a:ext cx="1655640" cy="1079280"/>
              </a:xfrm>
              <a:prstGeom prst="rect">
                <a:avLst/>
              </a:prstGeom>
              <a:noFill/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948360" y="4653000"/>
                <a:ext cx="165564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7308720" y="472176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ahoma"/>
                </a:rPr>
                <a:t>蓝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804000" y="2924280"/>
            <a:ext cx="1655640" cy="1079280"/>
            <a:chOff x="6804000" y="2924280"/>
            <a:chExt cx="1655640" cy="1079280"/>
          </a:xfrm>
        </p:grpSpPr>
        <p:grpSp>
          <p:nvGrpSpPr>
            <p:cNvPr id="642" name=""/>
            <p:cNvGrpSpPr/>
            <p:nvPr/>
          </p:nvGrpSpPr>
          <p:grpSpPr>
            <a:xfrm>
              <a:off x="6804000" y="2924280"/>
              <a:ext cx="1655640" cy="1079280"/>
              <a:chOff x="6804000" y="2924280"/>
              <a:chExt cx="1655640" cy="1079280"/>
            </a:xfrm>
          </p:grpSpPr>
          <p:sp>
            <p:nvSpPr>
              <p:cNvPr id="643" name=""/>
              <p:cNvSpPr/>
              <p:nvPr/>
            </p:nvSpPr>
            <p:spPr>
              <a:xfrm>
                <a:off x="6804000" y="2924280"/>
                <a:ext cx="1655640" cy="1079280"/>
              </a:xfrm>
              <a:prstGeom prst="rect">
                <a:avLst/>
              </a:prstGeom>
              <a:noFill/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04000" y="3284640"/>
                <a:ext cx="165564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7164360" y="34264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ahoma"/>
                </a:rPr>
                <a:t>红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八 一笔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504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20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哥根堡七桥问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3097440" cy="127944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4549680" y="3200400"/>
            <a:ext cx="459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3979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能一笔画的图必须满足如下条件：（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）图形连通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）图中奇点的个数是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或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5978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一  数字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445200"/>
            <a:ext cx="6858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1 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杜西教授的观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1930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年意大利教授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杜西做了如下观察：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在一个圆周上放上任意四个数，例如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17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55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47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现在我们由此再来构造一组循环排列的四个数，办法是两个相邻的数相减，并且总是较大的减较小的，这样做下去，最后将出现四个相等的数。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505320" y="2286000"/>
            <a:ext cx="38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f89f7">
                    <a:alpha val="75000"/>
                  </a:srgbClr>
                </a:solidFill>
                <a:latin typeface="Stencil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f89f7">
                  <a:alpha val="75000"/>
                </a:srgbClr>
              </a:solidFill>
              <a:latin typeface="Stencil"/>
              <a:ea typeface="Stenci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505320" y="3962520"/>
            <a:ext cx="388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solidFill>
                    <a:srgbClr val="40458c"/>
                  </a:solidFill>
                </a:ln>
                <a:solidFill>
                  <a:srgbClr val="c0c0c0">
                    <a:alpha val="80000"/>
                  </a:srgbClr>
                </a:solidFill>
                <a:latin typeface="Kunstler Script"/>
              </a:rPr>
              <a:t>Thanks</a:t>
            </a:r>
            <a:endParaRPr b="1" lang="en-US" sz="2400" spc="1" strike="noStrike">
              <a:ln w="0">
                <a:solidFill>
                  <a:srgbClr val="40458c"/>
                </a:solidFill>
              </a:ln>
              <a:solidFill>
                <a:srgbClr val="c0c0c0">
                  <a:alpha val="80000"/>
                </a:srgbClr>
              </a:solidFill>
              <a:latin typeface="Kunstler Script"/>
              <a:ea typeface="Kunstler Script"/>
            </a:endParaRPr>
          </a:p>
        </p:txBody>
      </p:sp>
      <p:pic>
        <p:nvPicPr>
          <p:cNvPr id="655" name="__scale__1_480071539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3733920" y="517932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2008.10.10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__scale__1_480071875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1763640" cy="13971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600200" y="1066680"/>
            <a:ext cx="5333760" cy="5202000"/>
            <a:chOff x="1600200" y="1066680"/>
            <a:chExt cx="5333760" cy="5202000"/>
          </a:xfrm>
        </p:grpSpPr>
        <p:sp>
          <p:nvSpPr>
            <p:cNvPr id="222" name=""/>
            <p:cNvSpPr/>
            <p:nvPr/>
          </p:nvSpPr>
          <p:spPr>
            <a:xfrm>
              <a:off x="2032560" y="1614600"/>
              <a:ext cx="4325040" cy="4325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64920" y="2066400"/>
              <a:ext cx="3459960" cy="34599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97280" y="2441160"/>
              <a:ext cx="2594880" cy="259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74000" y="2940840"/>
              <a:ext cx="1482480" cy="1499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06720" y="3315600"/>
              <a:ext cx="7207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57600" y="34408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50720" y="10666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64920" y="34408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50720" y="581472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92520" y="231624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09280" y="231624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48520" y="481536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0720" y="206640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92520" y="34408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3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00200" y="34408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74000" y="40654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50720" y="294084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2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83440" y="34408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74000" y="34408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4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50720" y="394056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5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27440" y="40654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3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86000" y="294084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2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71800" y="294084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3280" y="49402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0720" y="4940280"/>
              <a:ext cx="576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58c"/>
                  </a:solidFill>
                  <a:latin typeface="Times New Roman"/>
                </a:rPr>
                <a:t>3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2 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数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617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给定数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6174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按递减的次序将各位数字重排，得最大者和最小者，然后相减，我们有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     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7641-1467=617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这正是我们开始的数，让我们用同样的手续于数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1997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得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     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9971-1799=817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     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8721-1278=74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     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7443-3447=3996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     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9963-3699=626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     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6642-2466=4176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     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7641-1467=617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事实是：不论开始是怎样的四位数，只要它的数字不全相同，那么上述步骤至多用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7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次就得到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  <a:ea typeface="Times New Roman"/>
              </a:rPr>
              <a:t>6174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ahoma"/>
              </a:rPr>
              <a:t>3 </a:t>
            </a:r>
            <a:r>
              <a:rPr b="0" lang="zh-CN" sz="4800" spc="-1" strike="noStrike">
                <a:solidFill>
                  <a:srgbClr val="660066"/>
                </a:solidFill>
                <a:latin typeface="Tahoma"/>
              </a:rPr>
              <a:t>数手指</a:t>
            </a: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（数字 周期）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一位数学家突然被他的小女儿吸引住了。女儿正伸开左手，正在数手指头呢！她数的方法是：大拇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食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中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无名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小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；然后换向，无名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中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食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大拇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；再换向，食指为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10……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数到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50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还没有停下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数学家就去问她：“孩子，你数手指头干吗呢？你要数到多少才停下来呢？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女孩站起身说：“爸爸，你一打岔，我把数到哪个手指给忘了，只好从头重来。我要数到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2007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，看停在哪个手指上。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数学家闭上眼睛想一想，说：“原来这样，如果你不数错的话，应该落在……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女孩真的数到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2007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了，使她惊奇的是父亲的预言完全正确。你知道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2007</a:t>
            </a:r>
            <a:r>
              <a:rPr b="0" lang="zh-CN" sz="2000" spc="-1" strike="noStrike">
                <a:solidFill>
                  <a:srgbClr val="40458c"/>
                </a:solidFill>
                <a:latin typeface="宋体"/>
              </a:rPr>
              <a:t>数到哪个手指吗？你能告诉小女孩，该怎样巧算？</a:t>
            </a: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2987640" y="1916280"/>
            <a:ext cx="3671280" cy="3356640"/>
            <a:chOff x="2987640" y="1916280"/>
            <a:chExt cx="3671280" cy="3356640"/>
          </a:xfrm>
        </p:grpSpPr>
        <p:grpSp>
          <p:nvGrpSpPr>
            <p:cNvPr id="252" name=""/>
            <p:cNvGrpSpPr/>
            <p:nvPr/>
          </p:nvGrpSpPr>
          <p:grpSpPr>
            <a:xfrm>
              <a:off x="3232080" y="2260440"/>
              <a:ext cx="3059280" cy="3012480"/>
              <a:chOff x="3232080" y="2260440"/>
              <a:chExt cx="3059280" cy="3012480"/>
            </a:xfrm>
          </p:grpSpPr>
          <p:sp>
            <p:nvSpPr>
              <p:cNvPr id="253" name=""/>
              <p:cNvSpPr/>
              <p:nvPr/>
            </p:nvSpPr>
            <p:spPr>
              <a:xfrm>
                <a:off x="3232080" y="2260440"/>
                <a:ext cx="3059280" cy="1092600"/>
              </a:xfrm>
              <a:custGeom>
                <a:avLst/>
                <a:gdLst/>
                <a:ahLst/>
                <a:rect l="l" t="t" r="r" b="b"/>
                <a:pathLst>
                  <a:path w="1500" h="835">
                    <a:moveTo>
                      <a:pt x="45" y="751"/>
                    </a:moveTo>
                    <a:cubicBezTo>
                      <a:pt x="105" y="711"/>
                      <a:pt x="165" y="671"/>
                      <a:pt x="225" y="631"/>
                    </a:cubicBezTo>
                    <a:cubicBezTo>
                      <a:pt x="251" y="613"/>
                      <a:pt x="285" y="611"/>
                      <a:pt x="315" y="601"/>
                    </a:cubicBezTo>
                    <a:cubicBezTo>
                      <a:pt x="375" y="581"/>
                      <a:pt x="435" y="561"/>
                      <a:pt x="495" y="541"/>
                    </a:cubicBezTo>
                    <a:cubicBezTo>
                      <a:pt x="528" y="530"/>
                      <a:pt x="597" y="481"/>
                      <a:pt x="630" y="466"/>
                    </a:cubicBezTo>
                    <a:cubicBezTo>
                      <a:pt x="677" y="445"/>
                      <a:pt x="730" y="433"/>
                      <a:pt x="780" y="421"/>
                    </a:cubicBezTo>
                    <a:cubicBezTo>
                      <a:pt x="870" y="427"/>
                      <a:pt x="969" y="411"/>
                      <a:pt x="1050" y="451"/>
                    </a:cubicBezTo>
                    <a:cubicBezTo>
                      <a:pt x="1120" y="486"/>
                      <a:pt x="1269" y="600"/>
                      <a:pt x="1320" y="661"/>
                    </a:cubicBezTo>
                    <a:cubicBezTo>
                      <a:pt x="1424" y="786"/>
                      <a:pt x="1264" y="620"/>
                      <a:pt x="1395" y="751"/>
                    </a:cubicBezTo>
                    <a:cubicBezTo>
                      <a:pt x="1418" y="821"/>
                      <a:pt x="1427" y="835"/>
                      <a:pt x="1500" y="811"/>
                    </a:cubicBezTo>
                    <a:cubicBezTo>
                      <a:pt x="1486" y="741"/>
                      <a:pt x="1464" y="671"/>
                      <a:pt x="1455" y="601"/>
                    </a:cubicBezTo>
                    <a:cubicBezTo>
                      <a:pt x="1445" y="526"/>
                      <a:pt x="1463" y="442"/>
                      <a:pt x="1425" y="376"/>
                    </a:cubicBezTo>
                    <a:cubicBezTo>
                      <a:pt x="1416" y="360"/>
                      <a:pt x="1395" y="356"/>
                      <a:pt x="1380" y="346"/>
                    </a:cubicBezTo>
                    <a:cubicBezTo>
                      <a:pt x="1333" y="275"/>
                      <a:pt x="1298" y="269"/>
                      <a:pt x="1215" y="241"/>
                    </a:cubicBezTo>
                    <a:cubicBezTo>
                      <a:pt x="1198" y="235"/>
                      <a:pt x="1186" y="218"/>
                      <a:pt x="1170" y="211"/>
                    </a:cubicBezTo>
                    <a:cubicBezTo>
                      <a:pt x="1141" y="198"/>
                      <a:pt x="1110" y="191"/>
                      <a:pt x="1080" y="181"/>
                    </a:cubicBezTo>
                    <a:cubicBezTo>
                      <a:pt x="1063" y="175"/>
                      <a:pt x="1052" y="156"/>
                      <a:pt x="1035" y="151"/>
                    </a:cubicBezTo>
                    <a:cubicBezTo>
                      <a:pt x="981" y="135"/>
                      <a:pt x="924" y="135"/>
                      <a:pt x="870" y="121"/>
                    </a:cubicBezTo>
                    <a:cubicBezTo>
                      <a:pt x="782" y="127"/>
                      <a:pt x="623" y="117"/>
                      <a:pt x="525" y="166"/>
                    </a:cubicBezTo>
                    <a:cubicBezTo>
                      <a:pt x="435" y="211"/>
                      <a:pt x="353" y="328"/>
                      <a:pt x="255" y="361"/>
                    </a:cubicBezTo>
                    <a:cubicBezTo>
                      <a:pt x="169" y="390"/>
                      <a:pt x="88" y="418"/>
                      <a:pt x="0" y="436"/>
                    </a:cubicBezTo>
                    <a:cubicBezTo>
                      <a:pt x="15" y="426"/>
                      <a:pt x="34" y="420"/>
                      <a:pt x="45" y="406"/>
                    </a:cubicBezTo>
                    <a:cubicBezTo>
                      <a:pt x="88" y="352"/>
                      <a:pt x="69" y="224"/>
                      <a:pt x="105" y="151"/>
                    </a:cubicBezTo>
                    <a:cubicBezTo>
                      <a:pt x="113" y="135"/>
                      <a:pt x="127" y="122"/>
                      <a:pt x="135" y="106"/>
                    </a:cubicBezTo>
                    <a:cubicBezTo>
                      <a:pt x="142" y="92"/>
                      <a:pt x="140" y="73"/>
                      <a:pt x="150" y="61"/>
                    </a:cubicBezTo>
                    <a:cubicBezTo>
                      <a:pt x="199" y="0"/>
                      <a:pt x="195" y="57"/>
                      <a:pt x="195" y="16"/>
                    </a:cubicBez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62320" y="2936520"/>
                <a:ext cx="2728800" cy="2336400"/>
              </a:xfrm>
              <a:custGeom>
                <a:avLst/>
                <a:gdLst/>
                <a:ahLst/>
                <a:rect l="l" t="t" r="r" b="b"/>
                <a:pathLst>
                  <a:path w="1338" h="1785">
                    <a:moveTo>
                      <a:pt x="666" y="1785"/>
                    </a:moveTo>
                    <a:cubicBezTo>
                      <a:pt x="616" y="1752"/>
                      <a:pt x="563" y="1720"/>
                      <a:pt x="531" y="1665"/>
                    </a:cubicBezTo>
                    <a:cubicBezTo>
                      <a:pt x="511" y="1629"/>
                      <a:pt x="519" y="1582"/>
                      <a:pt x="501" y="1545"/>
                    </a:cubicBezTo>
                    <a:cubicBezTo>
                      <a:pt x="479" y="1500"/>
                      <a:pt x="441" y="1465"/>
                      <a:pt x="411" y="1425"/>
                    </a:cubicBezTo>
                    <a:cubicBezTo>
                      <a:pt x="383" y="1260"/>
                      <a:pt x="329" y="1076"/>
                      <a:pt x="246" y="930"/>
                    </a:cubicBezTo>
                    <a:cubicBezTo>
                      <a:pt x="206" y="860"/>
                      <a:pt x="207" y="817"/>
                      <a:pt x="156" y="750"/>
                    </a:cubicBezTo>
                    <a:cubicBezTo>
                      <a:pt x="151" y="735"/>
                      <a:pt x="154" y="714"/>
                      <a:pt x="141" y="705"/>
                    </a:cubicBezTo>
                    <a:cubicBezTo>
                      <a:pt x="115" y="687"/>
                      <a:pt x="51" y="675"/>
                      <a:pt x="51" y="675"/>
                    </a:cubicBezTo>
                    <a:cubicBezTo>
                      <a:pt x="64" y="472"/>
                      <a:pt x="0" y="392"/>
                      <a:pt x="171" y="435"/>
                    </a:cubicBezTo>
                    <a:cubicBezTo>
                      <a:pt x="279" y="507"/>
                      <a:pt x="236" y="470"/>
                      <a:pt x="306" y="540"/>
                    </a:cubicBezTo>
                    <a:cubicBezTo>
                      <a:pt x="337" y="634"/>
                      <a:pt x="364" y="730"/>
                      <a:pt x="396" y="825"/>
                    </a:cubicBezTo>
                    <a:cubicBezTo>
                      <a:pt x="397" y="829"/>
                      <a:pt x="438" y="905"/>
                      <a:pt x="441" y="915"/>
                    </a:cubicBezTo>
                    <a:cubicBezTo>
                      <a:pt x="446" y="900"/>
                      <a:pt x="457" y="886"/>
                      <a:pt x="456" y="870"/>
                    </a:cubicBezTo>
                    <a:cubicBezTo>
                      <a:pt x="452" y="829"/>
                      <a:pt x="426" y="750"/>
                      <a:pt x="426" y="750"/>
                    </a:cubicBezTo>
                    <a:cubicBezTo>
                      <a:pt x="440" y="558"/>
                      <a:pt x="454" y="353"/>
                      <a:pt x="501" y="165"/>
                    </a:cubicBezTo>
                    <a:cubicBezTo>
                      <a:pt x="590" y="187"/>
                      <a:pt x="581" y="205"/>
                      <a:pt x="621" y="285"/>
                    </a:cubicBezTo>
                    <a:cubicBezTo>
                      <a:pt x="612" y="459"/>
                      <a:pt x="610" y="625"/>
                      <a:pt x="576" y="795"/>
                    </a:cubicBezTo>
                    <a:cubicBezTo>
                      <a:pt x="581" y="820"/>
                      <a:pt x="567" y="878"/>
                      <a:pt x="591" y="870"/>
                    </a:cubicBezTo>
                    <a:cubicBezTo>
                      <a:pt x="621" y="860"/>
                      <a:pt x="611" y="810"/>
                      <a:pt x="621" y="780"/>
                    </a:cubicBezTo>
                    <a:cubicBezTo>
                      <a:pt x="626" y="765"/>
                      <a:pt x="633" y="751"/>
                      <a:pt x="636" y="735"/>
                    </a:cubicBezTo>
                    <a:cubicBezTo>
                      <a:pt x="677" y="528"/>
                      <a:pt x="702" y="332"/>
                      <a:pt x="726" y="120"/>
                    </a:cubicBezTo>
                    <a:cubicBezTo>
                      <a:pt x="734" y="52"/>
                      <a:pt x="738" y="21"/>
                      <a:pt x="801" y="0"/>
                    </a:cubicBezTo>
                    <a:cubicBezTo>
                      <a:pt x="826" y="5"/>
                      <a:pt x="855" y="1"/>
                      <a:pt x="876" y="15"/>
                    </a:cubicBezTo>
                    <a:cubicBezTo>
                      <a:pt x="889" y="24"/>
                      <a:pt x="889" y="44"/>
                      <a:pt x="891" y="60"/>
                    </a:cubicBezTo>
                    <a:cubicBezTo>
                      <a:pt x="899" y="120"/>
                      <a:pt x="901" y="180"/>
                      <a:pt x="906" y="240"/>
                    </a:cubicBezTo>
                    <a:cubicBezTo>
                      <a:pt x="905" y="245"/>
                      <a:pt x="888" y="409"/>
                      <a:pt x="876" y="435"/>
                    </a:cubicBezTo>
                    <a:cubicBezTo>
                      <a:pt x="843" y="508"/>
                      <a:pt x="776" y="559"/>
                      <a:pt x="741" y="630"/>
                    </a:cubicBezTo>
                    <a:cubicBezTo>
                      <a:pt x="730" y="652"/>
                      <a:pt x="716" y="716"/>
                      <a:pt x="711" y="735"/>
                    </a:cubicBezTo>
                    <a:cubicBezTo>
                      <a:pt x="716" y="775"/>
                      <a:pt x="701" y="824"/>
                      <a:pt x="726" y="855"/>
                    </a:cubicBezTo>
                    <a:cubicBezTo>
                      <a:pt x="736" y="868"/>
                      <a:pt x="800" y="768"/>
                      <a:pt x="801" y="765"/>
                    </a:cubicBezTo>
                    <a:cubicBezTo>
                      <a:pt x="865" y="622"/>
                      <a:pt x="887" y="456"/>
                      <a:pt x="981" y="330"/>
                    </a:cubicBezTo>
                    <a:cubicBezTo>
                      <a:pt x="1004" y="240"/>
                      <a:pt x="1007" y="166"/>
                      <a:pt x="1101" y="135"/>
                    </a:cubicBezTo>
                    <a:cubicBezTo>
                      <a:pt x="1138" y="246"/>
                      <a:pt x="1117" y="197"/>
                      <a:pt x="1161" y="285"/>
                    </a:cubicBezTo>
                    <a:cubicBezTo>
                      <a:pt x="1166" y="325"/>
                      <a:pt x="1176" y="365"/>
                      <a:pt x="1176" y="405"/>
                    </a:cubicBezTo>
                    <a:cubicBezTo>
                      <a:pt x="1176" y="454"/>
                      <a:pt x="1143" y="460"/>
                      <a:pt x="1116" y="495"/>
                    </a:cubicBezTo>
                    <a:cubicBezTo>
                      <a:pt x="1078" y="544"/>
                      <a:pt x="1006" y="633"/>
                      <a:pt x="981" y="690"/>
                    </a:cubicBezTo>
                    <a:cubicBezTo>
                      <a:pt x="962" y="733"/>
                      <a:pt x="962" y="786"/>
                      <a:pt x="936" y="825"/>
                    </a:cubicBezTo>
                    <a:cubicBezTo>
                      <a:pt x="926" y="840"/>
                      <a:pt x="889" y="866"/>
                      <a:pt x="906" y="870"/>
                    </a:cubicBezTo>
                    <a:cubicBezTo>
                      <a:pt x="937" y="878"/>
                      <a:pt x="996" y="840"/>
                      <a:pt x="996" y="840"/>
                    </a:cubicBezTo>
                    <a:cubicBezTo>
                      <a:pt x="1080" y="715"/>
                      <a:pt x="1031" y="775"/>
                      <a:pt x="1146" y="660"/>
                    </a:cubicBezTo>
                    <a:cubicBezTo>
                      <a:pt x="1174" y="632"/>
                      <a:pt x="1193" y="598"/>
                      <a:pt x="1221" y="570"/>
                    </a:cubicBezTo>
                    <a:cubicBezTo>
                      <a:pt x="1321" y="595"/>
                      <a:pt x="1338" y="634"/>
                      <a:pt x="1296" y="750"/>
                    </a:cubicBezTo>
                    <a:cubicBezTo>
                      <a:pt x="1289" y="770"/>
                      <a:pt x="1265" y="779"/>
                      <a:pt x="1251" y="795"/>
                    </a:cubicBezTo>
                    <a:cubicBezTo>
                      <a:pt x="1173" y="889"/>
                      <a:pt x="1292" y="793"/>
                      <a:pt x="1131" y="900"/>
                    </a:cubicBezTo>
                    <a:cubicBezTo>
                      <a:pt x="1116" y="910"/>
                      <a:pt x="1086" y="930"/>
                      <a:pt x="1086" y="930"/>
                    </a:cubicBezTo>
                    <a:cubicBezTo>
                      <a:pt x="1036" y="1005"/>
                      <a:pt x="1029" y="998"/>
                      <a:pt x="1011" y="1065"/>
                    </a:cubicBezTo>
                    <a:cubicBezTo>
                      <a:pt x="1000" y="1105"/>
                      <a:pt x="981" y="1185"/>
                      <a:pt x="981" y="1185"/>
                    </a:cubicBezTo>
                    <a:cubicBezTo>
                      <a:pt x="969" y="1313"/>
                      <a:pt x="936" y="1448"/>
                      <a:pt x="936" y="157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987640" y="1916280"/>
              <a:ext cx="3671280" cy="1837080"/>
              <a:chOff x="2987640" y="1916280"/>
              <a:chExt cx="3671280" cy="1837080"/>
            </a:xfrm>
          </p:grpSpPr>
          <p:sp>
            <p:nvSpPr>
              <p:cNvPr id="256" name=""/>
              <p:cNvSpPr/>
              <p:nvPr/>
            </p:nvSpPr>
            <p:spPr>
              <a:xfrm>
                <a:off x="2987640" y="2528640"/>
                <a:ext cx="1101240" cy="6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21680" y="2732760"/>
                <a:ext cx="1101240" cy="6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90120" y="2732760"/>
                <a:ext cx="1101240" cy="6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87640" y="2940840"/>
                <a:ext cx="734040" cy="6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4120" y="1916280"/>
                <a:ext cx="1101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56080" y="2120400"/>
                <a:ext cx="734040" cy="6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57680" y="2324520"/>
                <a:ext cx="1101240" cy="6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24880" y="3141000"/>
                <a:ext cx="73404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56080" y="2532600"/>
                <a:ext cx="110124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21680" y="2324520"/>
                <a:ext cx="734400" cy="6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660066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宋体"/>
              </a:rPr>
              <a:t>二 策略运筹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4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烤烧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一张锅上可同时烤两张饼，烤熟每一面需</a:t>
            </a: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分钟，烤</a:t>
            </a: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张饼最少用多少时间？怎样烤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411480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3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分钟；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设三张饼为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各有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两面，第一个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分钟烤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A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A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第二个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分钟烤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B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3A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第三个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分钟烤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B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3B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2438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宋体"/>
              </a:rPr>
              <a:t>策略运筹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5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扑克牌排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094760" y="3045960"/>
            <a:ext cx="20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6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老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的优势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1:30:09Z</dcterms:created>
  <dc:creator>fty</dc:creator>
  <dc:description/>
  <dc:language>en-US</dc:language>
  <cp:lastModifiedBy>微软用户</cp:lastModifiedBy>
  <dcterms:modified xsi:type="dcterms:W3CDTF">2008-10-22T06:49:56Z</dcterms:modified>
  <cp:revision>48</cp:revision>
  <dc:subject/>
  <dc:title>数学的思维 </dc:title>
</cp:coreProperties>
</file>