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FF9-4B22-430B-B3B1-FB8C6728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3DE-3840-4C9D-80F7-85EB5104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69F-AE53-42E9-B41D-06ADE063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8ED-5743-430B-BBD3-33B67602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C6D-E878-44C6-B9D4-15B888D1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213-D90A-49C9-B2FC-5E18ABD0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45C-BD55-4528-81C4-377F274A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710-EC04-4B90-8D3C-59C3CA15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4A6-DD41-406B-BCE3-603C497F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5DE-841D-4926-A855-2399064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BE6-6BB7-4208-8181-483025F7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025-471F-49EE-BC19-74D05B9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0371-664F-4127-AB11-0427DBFF1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方案初定（无字内页）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1306221429409197071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4435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684360" y="1341360"/>
            <a:ext cx="8100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经济贸易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----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会计电算化专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5" descr="QQ截图20140115164611"/>
          <p:cNvPicPr/>
          <p:nvPr/>
        </p:nvPicPr>
        <p:blipFill>
          <a:blip r:embed="rId1"/>
          <a:stretch/>
        </p:blipFill>
        <p:spPr>
          <a:xfrm>
            <a:off x="1116000" y="692280"/>
            <a:ext cx="6912000" cy="1361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900000" y="1484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16000" y="2421000"/>
          <a:ext cx="6765840" cy="3825720"/>
        </p:xfrm>
        <a:graphic>
          <a:graphicData uri="http://schemas.openxmlformats.org/drawingml/2006/table">
            <a:tbl>
              <a:tblPr/>
              <a:tblGrid>
                <a:gridCol w="4032360"/>
                <a:gridCol w="1368360"/>
                <a:gridCol w="1365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招生专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独招生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会计电算化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环境艺术设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市场营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物流管理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电子商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13"/>
          <p:cNvSpPr/>
          <p:nvPr/>
        </p:nvSpPr>
        <p:spPr>
          <a:xfrm>
            <a:off x="4859280" y="206064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★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14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年参加单招的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专业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校园广场 拷贝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740120"/>
            <a:ext cx="9144000" cy="2144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7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会计电算化专业的人才培养，着重于熟悉会计法规、准则和制度，掌握会计基本理论和方法，并具备较强的会计实务能力、熟练的会计电算化操作能力以及财务分析和管理能力，塑造现代企业需求的高素质技能型人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要课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基础会计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会计电算化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财务会计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成本会计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税务会计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财务管理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会计综合模拟实习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师资力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5614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会计电算化教研室是一支科研力量雄厚，学历、职称和年龄结构较为合理，团结向上、富有朝气的教学团队。现有会计专业专职教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其中高级会计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中级会计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在读博士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硕士研究生学历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拥有丰富的教学及实践经验，多名教师获得省厅级教学奖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实习实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5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本专业建立了会计手工账实训室和会计电算化实训室，集合会计手工操作、会计分岗操作及会计电算化操作，实现了对企业运营的逼真模拟，促使会计理论与企业实际会计工作的顺利对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第一阶段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教学实习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开设主要专业课之后，对主干课程在课堂教学过程中进行实习实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第二阶段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专业实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开设大部分主要专业课之后，对学生进行综合实习或模拟实训。要求学生分别完成一套手工帐、电子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第三阶段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毕业实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开设全部专业课之后，要求学生深入企事业单位进行全面、系统的实践锻炼，写出毕业实习报告和毕业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会计综合实验室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1306211850293883425"/>
          <p:cNvPicPr/>
          <p:nvPr/>
        </p:nvPicPr>
        <p:blipFill>
          <a:blip r:embed="rId1"/>
          <a:stretch/>
        </p:blipFill>
        <p:spPr>
          <a:xfrm>
            <a:off x="179280" y="2349360"/>
            <a:ext cx="4248360" cy="3571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4643280" y="4868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开放式会计手工及电算化财会模拟实验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68360" y="1843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盘及手工账实验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MM9J`Q3MY[Z6%P)[V0LM3VJ"/>
          <p:cNvPicPr/>
          <p:nvPr/>
        </p:nvPicPr>
        <p:blipFill>
          <a:blip r:embed="rId2"/>
          <a:stretch/>
        </p:blipFill>
        <p:spPr>
          <a:xfrm>
            <a:off x="4500720" y="981000"/>
            <a:ext cx="446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24000" y="1197000"/>
            <a:ext cx="8424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招生计划    </a:t>
            </a:r>
            <a:r>
              <a:rPr b="1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会计电算化专业 </a:t>
            </a:r>
            <a:r>
              <a:rPr b="1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00</a:t>
            </a:r>
            <a:r>
              <a:rPr b="1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人，学制</a:t>
            </a:r>
            <a:r>
              <a:rPr b="1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年，学费</a:t>
            </a:r>
            <a:r>
              <a:rPr b="1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3600</a:t>
            </a:r>
            <a:r>
              <a:rPr b="1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元</a:t>
            </a:r>
            <a:r>
              <a:rPr b="1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/</a:t>
            </a:r>
            <a:r>
              <a:rPr b="1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报名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、网上报名  </a:t>
            </a:r>
            <a:r>
              <a:rPr b="0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2014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年</a:t>
            </a:r>
            <a:r>
              <a:rPr b="0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月</a:t>
            </a:r>
            <a:r>
              <a:rPr b="0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日至</a:t>
            </a:r>
            <a:r>
              <a:rPr b="0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4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月</a:t>
            </a:r>
            <a:r>
              <a:rPr b="0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5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日，登陆郑州旅游职业学院网（</a:t>
            </a:r>
            <a:r>
              <a:rPr b="0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http://www.zztrc.edu.cn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）通过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单独招生网上报名系统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进行网上报名，网上报名流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登入网站→注册→填写考生信息→填报专业志愿→提交照片（暂无照片也可确认）→确认提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、现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考生可携带二代身份证直接到学院招生就业办事大厅现场报名。报名时请提交和省招办信息采集一致的考生号、报名序号、电子照片（可通过省招办高招报名系统下载），将电子照片以考生本人姓名</a:t>
            </a:r>
            <a:r>
              <a:rPr b="0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+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考生号命名（如张三</a:t>
            </a:r>
            <a:r>
              <a:rPr b="0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+13411512110647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）发送到学院电子信箱</a:t>
            </a:r>
            <a:r>
              <a:rPr b="0" lang="en-US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lvyuanzhaojiuban@126.com</a:t>
            </a: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  </a:t>
            </a:r>
            <a:r>
              <a:rPr b="1" lang="zh-CN" sz="16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注：考生在网上报名或现场报名时，须同时填报专业志愿。可填报两个专业志愿，中职学生可不限类别跨专业填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3708360" y="692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单独招生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42920" y="2276640"/>
          <a:ext cx="7345440" cy="3097080"/>
        </p:xfrm>
        <a:graphic>
          <a:graphicData uri="http://schemas.openxmlformats.org/drawingml/2006/table">
            <a:tbl>
              <a:tblPr/>
              <a:tblGrid>
                <a:gridCol w="2847960"/>
                <a:gridCol w="4497480"/>
              </a:tblGrid>
              <a:tr h="83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时  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e6fb"/>
                      </a:solidFill>
                    </a:lnL>
                    <a:lnR w="5760">
                      <a:solidFill>
                        <a:srgbClr val="a3e6fb"/>
                      </a:solidFill>
                    </a:lnR>
                    <a:lnT w="5760">
                      <a:solidFill>
                        <a:srgbClr val="a3e6fb"/>
                      </a:solidFill>
                    </a:lnT>
                    <a:lnB w="5760">
                      <a:solidFill>
                        <a:srgbClr val="a3e6fb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工作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e6fb"/>
                      </a:solidFill>
                    </a:lnL>
                    <a:lnR w="5760">
                      <a:solidFill>
                        <a:srgbClr val="a3e6fb"/>
                      </a:solidFill>
                    </a:lnR>
                    <a:lnT w="5760">
                      <a:solidFill>
                        <a:srgbClr val="a3e6fb"/>
                      </a:solidFill>
                    </a:lnT>
                    <a:lnB w="5760">
                      <a:solidFill>
                        <a:srgbClr val="a3e6fb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e6fb"/>
                      </a:solidFill>
                    </a:lnL>
                    <a:lnR w="5760">
                      <a:solidFill>
                        <a:srgbClr val="a3e6fb"/>
                      </a:solidFill>
                    </a:lnR>
                    <a:lnT w="5760">
                      <a:solidFill>
                        <a:srgbClr val="a3e6fb"/>
                      </a:solidFill>
                    </a:lnT>
                    <a:lnB w="5760">
                      <a:solidFill>
                        <a:srgbClr val="a3e6fb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：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30--11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：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00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文化科目考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：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00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开始职业技能考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e6fb"/>
                      </a:solidFill>
                    </a:lnL>
                    <a:lnR w="5760">
                      <a:solidFill>
                        <a:srgbClr val="a3e6fb"/>
                      </a:solidFill>
                    </a:lnR>
                    <a:lnT w="5760">
                      <a:solidFill>
                        <a:srgbClr val="a3e6fb"/>
                      </a:solidFill>
                    </a:lnT>
                    <a:lnB w="5760">
                      <a:solidFill>
                        <a:srgbClr val="a3e6fb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-24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e6fb"/>
                      </a:solidFill>
                    </a:lnL>
                    <a:lnR w="5760">
                      <a:solidFill>
                        <a:srgbClr val="a3e6fb"/>
                      </a:solidFill>
                    </a:lnR>
                    <a:lnT w="5760">
                      <a:solidFill>
                        <a:srgbClr val="a3e6fb"/>
                      </a:solidFill>
                    </a:lnT>
                    <a:lnB w="5760">
                      <a:solidFill>
                        <a:srgbClr val="a3e6fb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在学院网站公布录取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e6fb"/>
                      </a:solidFill>
                    </a:lnL>
                    <a:lnR w="5760">
                      <a:solidFill>
                        <a:srgbClr val="a3e6fb"/>
                      </a:solidFill>
                    </a:lnR>
                    <a:lnT w="5760">
                      <a:solidFill>
                        <a:srgbClr val="a3e6fb"/>
                      </a:solidFill>
                    </a:lnT>
                    <a:lnB w="5760">
                      <a:solidFill>
                        <a:srgbClr val="a3e6fb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日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e6fb"/>
                      </a:solidFill>
                    </a:lnL>
                    <a:lnR w="5760">
                      <a:solidFill>
                        <a:srgbClr val="a3e6fb"/>
                      </a:solidFill>
                    </a:lnR>
                    <a:lnT w="5760">
                      <a:solidFill>
                        <a:srgbClr val="a3e6fb"/>
                      </a:solidFill>
                    </a:lnT>
                    <a:lnB w="5760">
                      <a:solidFill>
                        <a:srgbClr val="a3e6fb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上报河南省招生办审核，发放录取通知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e6fb"/>
                      </a:solidFill>
                    </a:lnL>
                    <a:lnR w="5760">
                      <a:solidFill>
                        <a:srgbClr val="a3e6fb"/>
                      </a:solidFill>
                    </a:lnR>
                    <a:lnT w="5760">
                      <a:solidFill>
                        <a:srgbClr val="a3e6fb"/>
                      </a:solidFill>
                    </a:lnT>
                    <a:lnB w="5760">
                      <a:solidFill>
                        <a:srgbClr val="a3e6fb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3" name="WordArt 19"/>
          <p:cNvSpPr txBox="1"/>
          <p:nvPr/>
        </p:nvSpPr>
        <p:spPr>
          <a:xfrm>
            <a:off x="3708360" y="765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单独招生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1258920" y="148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考试时间及录取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3419640" y="115920"/>
            <a:ext cx="2592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新校区效果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" name="Picture 6" descr="BN%{SH5~`8C5}P5G7S7KLDQ"/>
          <p:cNvPicPr/>
          <p:nvPr/>
        </p:nvPicPr>
        <p:blipFill>
          <a:blip r:embed="rId3"/>
          <a:srcRect l="0" t="18799" r="0" b="0"/>
          <a:stretch/>
        </p:blipFill>
        <p:spPr>
          <a:xfrm>
            <a:off x="-34920" y="1268280"/>
            <a:ext cx="9178920" cy="559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06:27:48Z</dcterms:created>
  <dc:creator>微软用户</dc:creator>
  <dc:description/>
  <dc:language>en-US</dc:language>
  <cp:lastModifiedBy>Crix</cp:lastModifiedBy>
  <dcterms:modified xsi:type="dcterms:W3CDTF">2014-01-18T07:40:22Z</dcterms:modified>
  <cp:revision>121</cp:revision>
  <dc:subject/>
  <dc:title>郑州旅游职业学院</dc:title>
</cp:coreProperties>
</file>